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88D-ABD7-432A-AC4E-9CEE7BD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56A-C2AF-4982-B10C-928EA26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E71-3D8C-4DA3-89A2-BC809486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59E-55FA-4D71-905E-D63776F1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9AB-D0C6-4AE6-9BD7-723EC1EB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E42-48F9-4E50-8DEC-D05AEB75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9A8-5492-410C-9A53-E29AEFE4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FC7-4E43-42D7-BD80-851C6BD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A9D-17A6-4A9B-8F9B-B265392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6A6-F0D6-4DD3-A418-346E7F6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7E4-9455-47CC-B38C-C3090FD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7DF-2BB2-423A-B458-E1343F0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FE9-1763-4BF2-883E-A259BE21BD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B70-626C-47D3-B967-89BB2C2D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716280"/>
            <a:ext cx="4103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pediente disciplinario a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BA1-965F-4A66-836D-8C27D981E7E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19ACD-C0F6-41ED-82D0-20D121EBAF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44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7. ¿Pode o Consello Escolar revisar a resolución do direc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O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34936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 instancias dos pais ou titores legais o Consello Escolar poderá revisar a decisión adoptada polo director/a e propoñer no seu caso as medidas oportunas se as correccións foron impostas por condutas que prexudican gravemente a convivencia (Moi graves). (Atº 127,f da L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71628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. ¿Pode o Consello Escolar levantar a corrección impos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No artº 52º,2 do R.D. Recolle que pode levantar a suspensión do dereito de asistencia o centro ou readmitilo no centro antes do remate do prazo previsto na corrección... Se constata que se produciu un cambio positivo de actitude.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en embargo, despois da LOE,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esta competencia corresponde ao Director/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849-25F3-4F9A-B8CF-D207F16BA2D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A8092-462F-4A52-A1EF-B1A8C7F42A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. ¿Cales son as correccións previstas para as condutas que prexudican gravemente a conviv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56536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Realización de tarefas dirixidas a reparar danos.....en horario non l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99736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a participar nas actividades complementarias e extraesc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71628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mbio de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14972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de asistencia a determinadas clases por un período superior a cinco días e inferior a dúas semanas...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Deberá realizar deberes e/ou traballos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515772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de asistencia ao centro por un período superior a tres días e inferior a un mes...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Deberá realizar deberes e/ou traballos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587700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mbio de 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8BE-AAC1-48A4-BF1B-9C6E6BB9AC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A5302-A05A-47EA-A668-F1A032B0D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. ¿Cales son as correccións previstas para as condutas que NON prexudican gravemente a conviv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56536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Amoestación privada ou por es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99736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omparecencia ante o xefe de estudos </a:t>
            </a:r>
            <a:r>
              <a:rPr b="0" lang="gl-ES" sz="1000" spc="-1" strike="noStrike">
                <a:solidFill>
                  <a:srgbClr val="ff3300"/>
                </a:solidFill>
                <a:latin typeface="Arial"/>
              </a:rPr>
              <a:t>(Profesores ou titor....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573360"/>
            <a:ext cx="7921440" cy="5205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Realización de traballos específicos en horario non lectivo</a:t>
            </a:r>
            <a:r>
              <a:rPr b="0" lang="gl-ES" sz="1000" spc="-1" strike="noStrike">
                <a:solidFill>
                  <a:srgbClr val="ff3300"/>
                </a:solidFill>
                <a:latin typeface="Arial"/>
              </a:rPr>
              <a:t> (Profesores ,titor, X.E,D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14972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Realización de tarefas dirixidas a reparar danos.....en horario non l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65300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a participar nas actividades complementarias e extraesc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51664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mbio de grupo por un prazo máximo dunh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44F-2AE9-4918-990D-5D15EA2FEAB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DF126-1946-4436-B58F-58F000BC76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. ¿Cales son as correccións previstas para as condutas que NON prexudican gravemente a conviv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78136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de asistencia a determinadas clases por un período </a:t>
            </a:r>
            <a:r>
              <a:rPr b="0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non superior a tres días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...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Deberá realizar deberes e/ou traballos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93372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de asistencia ao centro por un período </a:t>
            </a:r>
            <a:r>
              <a:rPr b="0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non superior a tres días lectivos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...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Deberá realizar deberes e/ou traballos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94172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Estas dúás últimas corrección deben ser impostas polo director/a 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ír ao 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ír al alumno/a e aos pais ou titores legais se é menor (Ac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Con posterioridade deberá comunicar esta circunstancia ao C.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3D5-DA35-4A8A-8FC3-B6A3AAB69B3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7C8AB-F7BF-40B9-8DCF-19A7FC6DED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060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. ¿É de aplicación esta normativa nos centros priv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8136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i para os centros privados concertados. Os non concertados gozarán de autonomía para establecer as súas propias normas de convivencia e para determinar ás posibles correccións e os órganos responsables de impoñe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7F7-64CF-414C-B319-2CDBE20C40B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A3031-BD45-41C3-B7B0-0D73249A1E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¿Cando procede iniciar un exped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pediente disciplinario a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49228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ndo se teña coñecemento da suposta comisión dunha falta que prexudica gravemente a convivencia (grave ou moi grave) das tipificadas no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R.D. 732/95  sempre que non prescrib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50028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. ¿Cando prescriben as fal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003560"/>
            <a:ext cx="7921440" cy="9169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s </a:t>
            </a:r>
            <a:r>
              <a:rPr b="0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condutas contrarias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ás normas de convivencia prescriben prescriben no prazo dun mes desde a data da comisión. As correccións desas condutas prescribirán ao finalizar o curso esc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01156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s </a:t>
            </a:r>
            <a:r>
              <a:rPr b="0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condutas gravemente prexudiciais 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para convivencia prescriben prescriben no prazo de catro meses desde a data da comisión. As correccións impostas como consecuencia desas condutas prescribirán ao finalizar o curso esc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48E-2813-4A96-A0BA-D2E39D4B28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66FDF-D6C7-4970-B4C0-D34E140D21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. ¿Quen acorda a incoación do exped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pediente disciplinario a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49228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 director por iniciativa propia ou a instancias do consello esc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314172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. ¿Como debe facer a inco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71628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Mediante un acordo por escrito, con indicación das condutas que se lle imputan ao alumno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22756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10 días hábiles desde que se coñecen os fe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72428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.- ¿Que prazo ten para decidir a inco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4BA-78BF-45A7-8E27-D827042DF76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3E71D-DFFA-467C-B0D2-5F06B21AC7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6.- ¿Que pasos ten que seguir o direc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pediente disciplinario a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49228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1º.- Facer por escrito a resolución de incoación. Na mesma debe nomear un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instrutor/a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que será sempre un profesor do centro o máis neutral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573360"/>
            <a:ext cx="792144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2º.- Comunicar a dita incoación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Áos pais, titores legais ou responsables do m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o instrutor do expediente.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o servizo de inspección que se manterá info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Na notificación debe incl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 incoación do exped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Unha explicación detallada dos fe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s faltas que se impu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 nome do instrutor/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F50-9FE0-4E03-9F8D-6D49EC10C5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D98C0-B210-47B0-BF04-D8E0015C9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44654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pediente disciplinario ao alum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85264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i. No prazo de 2 días hábiles ante o dir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276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7.- ¿Pode ser recusado o instrutor/a por parte dos pa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29264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3 días hábiles. Contra dita resolución, que debe ser motivada, non cabe recurso algún (Artº 50 e 89 da Lei 30/9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71628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.- ¿Que tempo ten o director para resolver a recus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3B3-E069-4374-89EF-1FB101FBB55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76E6E-D587-42A2-A26B-C1EC805026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. ¿Cando se ini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strución do exped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49228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ndo o instrutor/a recibe  a resolución do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14172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. ¿Que prazo ten para realizar dita instru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Non máis de 7 días há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4724280"/>
            <a:ext cx="7921440" cy="14655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 director/a por iniciativa propia ou a proposta do instrutor/a pode, excepcionalmente, tomar as seguintes medidas provision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ambio temporal de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Suspensión do dereito de asistencia ao centro ou a determinadas clases por un período que non será superior a cinco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221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.- ¿Pódense tomar nese prazo medidas provisiona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AF8-FF06-48B0-BF5D-0BAD46E3FF1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C8C7A-FFCF-4246-AC0E-70F5469846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989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. ¿Que pasos ten que seguir o instru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strución do exped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63700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1º.- Tomar declaración ao alumno/a inculpado. Tamén aos pais ou titores legais se o considera oport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57336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2º.- Tomar declaración a outras persoas que teñan algo que achegar para esclarecer os feitos e/ou calquera outra actuación neces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508640"/>
            <a:ext cx="7921440" cy="3682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3º.- Elaborar a proposta de 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15772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4º.- Notificar por escrito a proposta de resolución ao inculpado/a e aos seus pais, titores legais ou representantes se é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539-0A71-4C77-8D8C-B0643EC38DB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CFA14-5262-411B-BB94-0F1D724817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44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. ¿Que pasos ten que seguir o instru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strución do exped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349360"/>
            <a:ext cx="7921440" cy="20142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5º.-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Trámite de audiencia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: Convócase ao inculpado e aos seus pais ou titores legais se é menor para a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vista do expediente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que debe ser exposto completo. (Pode dárselle copia íntegra). Comunícaselles as condutas que se lle imputan e as medidas de corrección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Levántase acta da reunión facendo constar o prazo de </a:t>
            </a:r>
            <a:r>
              <a:rPr b="0" lang="gl-ES" sz="1800" spc="-1" strike="noStrike" u="sng">
                <a:solidFill>
                  <a:srgbClr val="ff3300"/>
                </a:solidFill>
                <a:uFillTx/>
                <a:latin typeface="Arial"/>
              </a:rPr>
              <a:t>2 días hábiles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para que o alumno/a ou os seus pais ou titores legais poidan presentar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alegaci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50864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6º.- Elaborar a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proposta de resolución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que deberá ser comunicada á inspección educ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30064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7º.- Enviar ao director o expediente comple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Declaracións e outros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Proposta de 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Alegacións presentadas polo inculpado ou a familia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989-F551-4DD7-AE45-F8B8E82119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1493F-23B0-45EC-9354-CB9563B709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84464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. ¿Como se resolve o exped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341360"/>
            <a:ext cx="3168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O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34936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O director/a deb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Ditar resolución que deberá ser motiva facendo referencia aos feitos e aos fundamentos de dereito. O prazo para ditar a resolución será como </a:t>
            </a:r>
            <a:r>
              <a:rPr b="0" lang="gl-ES" sz="1800" spc="-1" strike="noStrike">
                <a:solidFill>
                  <a:srgbClr val="333399"/>
                </a:solidFill>
                <a:latin typeface="Arial"/>
              </a:rPr>
              <a:t>máximo de 1 mes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 desde a iniciación do procedemento. (Data na que se asinou o acordo de inco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Comunicar ao Consello Escolar a dita re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437000"/>
            <a:ext cx="7921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6. ¿Cabe recurso contra a resolución do director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941720"/>
            <a:ext cx="7921440" cy="64260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Poderase presentar recurso de alzada no prazo de 1 mes ante o Delegado Provincial da Consellería de Educación e O.U. (Artº 114 da Lei 30/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B50-0E26-4087-B5CC-DC27E2CEC02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C1912-C1ED-4BB1-8763-DAA4E7557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8-11-22T11:09:16Z</dcterms:modified>
  <cp:revision>7</cp:revision>
  <dc:subject/>
  <dc:title>PREGUNTAS E RESPOSTAS</dc:title>
</cp:coreProperties>
</file>